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7387A62-A1F5-41FE-A835-C7F3C47D791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8C1C523-DDB9-4D86-8F8B-44B6525854A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1A97F81-88FB-4B1B-9E09-AB2AF8E31DD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6240CEE-6C54-46D1-B429-F65D71D0D68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90EC758-EAF9-497E-A866-7D1E939415F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6676894-789F-4110-9A22-E6293BF8A22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92F4E7F-4144-4FA2-8E05-E9D85A81795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459F1FF-271B-4EEA-AB81-317C6D9CD5C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EA3D112-5C3E-4926-AB30-37BC5F7C0B1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3D72352-CA8E-4EEC-967E-02E9D614AA2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3AFC432-ADD9-4481-9604-E3CA514F724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6B909E0-C6A3-4626-A632-968217A5789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2F257BD-5058-4A4A-AFBB-1E8F4B4EE5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37E146-2174-4AF6-A643-A2A03CEB91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360B80B-4E1D-472E-B445-EAFF7D00E6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BB8B5F6-67F6-4DC3-881B-D3DC701250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DFE2A31-EB67-45CB-9CDF-E210664AE11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1F360BD-23B0-4038-85B2-4DF2458C8EC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248313C-433E-4110-B4AB-08A3ADAE775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61BBD14-233D-4951-B142-8976A2C57EF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69C2DB8-E3CB-4078-ABE1-7FC1C4D8FBE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EA9A971-50B5-416B-B13A-590286F1BC7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913DD59-09A7-4873-99B6-1982663D19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8BA7DE5-B824-4FAD-95EA-BE8A4A7C30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CB9ABC3-7C04-4055-8C23-9124E08E748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3F3AE3C-8D42-4762-8CF7-74AF5F9D95B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CD5B676-0EEC-4BA6-826B-8CB7EF405D5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F49E826-7B74-4EB4-84DC-54CA1095915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B0D0050-266F-46F1-8E11-61693452045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970096-31C2-468E-9FF8-A5CC295226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FA71DE9-D9CB-44BA-B2A7-565F570659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15A51D-8576-4BA1-84F9-9FA58207ED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8D3230-68E8-4E60-A33E-8014EA20BB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7A8233-AEEF-4288-B4EE-D21ABE7B40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3F3BDC-782F-4B12-9C78-C99B112297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EE34E9-C078-4DD6-A98C-9ADD3F3164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D6677-C5E1-4B53-82C3-5763272F56FB}"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E70FC-F99D-4AEA-9C2A-D6F1D4AD510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0182280-6935-46AD-A533-2441523D17A3}"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D5FFE34-462B-4F34-81E6-1C6F6E92A603}"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B2531E9-B995-4482-8165-5188E35FE37E}"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4D997A0-2CFB-412C-9B11-6660163A47F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DCB0C14-9224-41CD-84A8-CA25B4D8CA7A}"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09DF857-642F-4870-A4FB-F616FDE0A7B8}"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19F51C9-FB06-4760-BF15-8728B0BFFDBA}"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A99BB7B-314C-47C6-97C8-82557200290A}"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489B369-FDED-4C96-B164-DC8C17153489}"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4D34940-AEDB-4B15-A14B-BBC2F12D6CF0}"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903A4B5-B4D3-4E8D-83DF-172A06D85BF4}"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1297C605-A359-4A1D-A2B7-B2ADCE7E9AA4}"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58DF158-A260-45FA-AE42-1ABBBB5F5CDD}"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2C1CE87-283D-4B07-B739-FB2139259FC8}"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D0A17E3-D8D8-4E9E-9FE0-04952FB3FF8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0876D96-08AB-430A-B35F-422891E3C550}"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19538D9-1BF9-474B-A87B-BB9531A13C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3C09A60-06A7-4513-9360-8AF310FA3C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167C76F-A2AB-461B-AB27-2728DB16DAA5}"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F047AC0-6D56-4EF4-B000-7B1F0AD73A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2F16F17-A41B-4CB5-A945-69D7521429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F7707F9-6F72-4CDC-998D-A470CBC8478E}"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6BA9FCF-3DD8-42E6-B7FF-EA0A8BDA14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E6A0D52-717F-40CF-88BE-7E91A49369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E030730-1BA8-46CF-8C01-C05C60D2C2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5816EB3-675D-40EE-AFEE-8990799CCC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633257F-9970-432B-86F5-6E3FF894A9A4}"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8F581FA-4F82-4242-B425-C25EA80035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BD948DA-E0B8-4758-BB87-963DDB5E23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7AF3308-2B27-45A1-878F-6F74C4FF2ADF}"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B1C3E87-21D1-46EF-80EE-513F9076776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D4D5B74-D3D8-4B2F-A567-F26F97C54D8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B0A2139-F6B1-4879-A2C3-7BE53973F72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9C0FB8C-EEBF-4DF4-B554-7D39D784C76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51FD0F1-8A04-4F13-BCEB-9A2AB38198F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06554F3-8A5B-4485-892D-73E4543B1B0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A603D20-4E79-44AD-B777-935704B06A3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C44B5EB-4A82-457C-A904-F3E5FB2BB8F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66FDB8C-C7CA-4C61-A5DF-A0803A2EB69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CCE70A7-9747-4B35-8B6B-A058058F44E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86DDFF3-6E8D-42CE-818C-C7B67CD4490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5086B61-CED9-4115-A219-8CBEE266F3D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E81CFDF-1458-4CB8-9A1C-32A077B2C93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E3380DE-3560-43E4-81D7-AA361233D50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F4A3339-F6EB-497A-9891-881D0AFA3BD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BB3D995-D260-4A22-9F2A-7A460B03B23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C8DD43A-ADF8-477F-8C02-87682570ADC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8922573-C3FF-49AB-B62B-1A27AD6418B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A7A4CF2-E13F-4C46-93CD-F6C6335A2A9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1617C00-774B-41F7-9B3C-E54FE0471806}"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5F5DF11-DA93-47F6-BE9D-569C974A0DAC}"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DD78611-4C01-4422-9D84-B3DC12EFBC8A}"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A21F33E-8BC6-47E9-A98A-9E556D32F0DF}"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4058732-0DB9-45C7-AF28-38E10B8B551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B75FEC2-C5A0-418B-B1CD-C372A565FF4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D4B1459-A10E-4774-97F3-A37ABB5FB41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D4EA2B0-222C-4363-BA1C-1CAB06DB0214}"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1AFAFE8-963C-44CD-BD48-13FF1978A1BF}"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F9A0682-D5EC-4883-97DF-083C2D7AFA1E}"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F5302E0-5EF8-46E4-9055-19A96704C07B}"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06008BE-541E-4D97-8B32-6492C24505CD}"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4B4FB3-837E-499D-BF58-B6244B4F9200}"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5C80C1A-D921-4853-93E6-E54376C679B4}"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5595886-AD5D-4C96-ACB9-46E1F51127A4}"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7FB5BD1-A38D-4A12-ADE6-9A529C0EC594}"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48F7517-F19B-4862-AC13-FEA6D27A22BA}"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FA2F468-1A8E-450B-A9A6-15FBF5C31496}"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475A409-5226-4A17-9668-D692BD27FEA9}"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1F7508D-3814-4A8E-82B6-0401B3B62543}"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27A720B-7D05-4FAE-BB27-A4ADC9070A5E}"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51ACBD4-BFE8-4F63-B044-A3DB8843F91B}"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CE2228D-AF87-466E-A68B-E2DF9F5E31EF}"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0301482-D804-4C8F-B6B5-BDDC39AF7815}"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62BDD6-E604-4A19-B5F7-3661799A31AD}"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0E6ED59-3BE9-4153-83C8-38DDE95B3B4D}"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64DC6A0-F6DD-4B5C-9DFE-3F7F3965B78A}"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6955B21-7859-468F-9A45-9B0F9D773DE7}"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59389FC-EF38-41A0-AE73-7653E8EF19D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E93AAD7-EA0F-45B8-929D-1B3FA813BB38}"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DDF55E8-CF71-487A-9819-05E5CBB59D5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86492AF-EB40-4282-9497-436101FBFBD5}"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179B900-01A4-468C-9623-DCEBBBA01371}"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351F895-6ABC-4CC5-A995-BA0AB7C2ED73}"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8B80CE5-96EC-49C2-A044-5D56CDA026AF}"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9B26F89-0063-42C6-B5C5-FA463866EF9F}"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AB398E2-905C-43A5-B232-CB23E9E6AC4C}"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6C8AE94-CC13-4D54-A591-48A3CC836332}"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CC7F7B0-0A61-476F-94BF-932BFBEC445E}"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69EE01B-3E45-47AF-B712-2398DFDD2E99}"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B13A7D8-11F5-4C41-A374-2168F684C340}"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8C5F217-96B8-4ED4-B2DA-00A68827A24F}"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ACBD3BE-F273-458A-8C58-1014D44849BF}"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E30CD15-51A7-4752-8071-52D7E6F936D5}"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1724EB5-AF2A-4EAA-B95F-821ED40D0714}"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22E4F41-CF9D-4ABA-876A-57591C50B0DB}"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675B98-7FC6-48C6-BCDD-FC72722366B5}"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AA8C3EC-62A5-46E0-95E3-22B5193527B3}"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F1F730DD-EBE0-4ACB-97CA-BA1ABE606D46}"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2640FC5-7CD8-4E80-9401-3D80DCA8074A}"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6458045-E7F2-423C-84BA-924DE0036F2F}"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22B5A19-C35B-4F3D-8485-BAACC790EEDB}"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E32FFC4-50EE-4143-955E-618C56C32FAF}"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8FBE5BA-9416-4781-853F-9C38F2E769D0}"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5669015-C5FA-40EB-8823-03D6355EA4AE}"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5103217-18A8-4589-BA61-33221325D9FE}"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28D6D24-F863-421B-BD78-978FD4CCE098}"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E9E27B7-4A6A-4255-835B-32BDF3A96F35}"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0AF6D61-F631-4D86-AB5D-24823983D384}"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2FF787E-0F41-4910-A558-75E47240AB85}"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00C45AA-3FBD-44A7-8C8F-CE94391DB57E}"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08BC5E2-3B67-4483-8573-454540CFAE3D}"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