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16C4768-A775-46A3-B319-2BE82B729E81}"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A8A8E2F-7843-451C-AE51-3C7B7677D99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8E0164E-C669-489C-B782-35FEE1635CB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83DF06B-AF9B-4841-AAE4-71B8A6F14AB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92AA42D-733D-4FDD-B13F-95529E9A4E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34CBC87-D1D2-4AD7-92CF-5FB7F7C6FD1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82F0045-F637-4EB0-9979-102ACFEEAAF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04C272E-F297-4F50-93EA-CED6013A412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0127C1F-46F4-46D8-8612-3C013A2D1CD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822325C-D01F-4F10-9BBE-895206DE837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6FAD7E4-82C6-4A0B-8DAF-3242CB03729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4D76C75-B6B8-41D2-9708-10F63A64491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55EBFC9-02C4-447B-BC01-229C9A7E0E9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D298E8E-4D10-4751-A26F-5AC30B669D5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6AD5501-A81E-4BB7-852E-2435A9FDBCD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BD9534F-27B1-4AA3-A0E1-47433283F15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8F7B268-59F9-41BA-85F2-0E8E49F2898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C4FBA0B-8F91-4FBD-8887-6EBF4083A9B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2788204-5A65-450A-AE64-FFFEAC2FCF3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7583378-0395-49F3-9C1F-502519D8810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32E3A8C-342D-4969-8CC9-2E876BAF39F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C8A6D14-385F-424A-B24A-7A15C30868D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6992B90-C47C-4815-BBCE-82E7313BD16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E2AC00E-393A-4AE6-8704-8F8C4587361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9F8372B-F35E-4D7B-808D-1330EF41D5D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E6D13CA-CE5E-4143-B175-F43A5F34C51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E8663-87FA-4528-9EB3-E9A41137215E}"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1E2A5-E156-4424-A999-BF4906D88B74}"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4815581-C55E-48C8-8C5F-A023854D2042}"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5E3DDB6-3ECA-4EF3-A2CC-33745E227907}"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50FE67C-65CF-4BE5-A813-4F3397609EDC}"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4F22A0A-2400-4905-94A8-B81785C20A67}"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0D0C1F1-7B8E-4A69-8488-BFA1F8C8FFFD}"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5EC7F3B-4120-4A98-AD4A-2C43FA4329B5}"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361B259-A834-456A-8711-0543FD4A01DA}"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E2D52AE-BA7B-4429-AFFC-FEE84EADC90D}"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57A208B-CD46-44C8-8984-A0144ADC6225}"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3A535FF-DE2B-4005-854F-A06F96649F3D}"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8633622-DC58-40B8-93E3-E2007DD84302}"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367B4BA-FD3D-482E-A87F-CB751F99D216}"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45273BC-9171-4B97-913E-44A7766C4565}"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4148B5B-005E-48F7-BAFC-BAFDF7267F18}"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3931859-869A-45F9-8065-321F4DFE6238}"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B16DF4E-B538-41DE-89DF-C6D750901FD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CE90932-8F75-40D6-94F5-9479295FEE80}"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471EC49-19DE-4D13-B0B2-B278F0A2547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8EC1DB39-9FFB-417B-87BF-3A0184900ACE}"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89B4DD1-7D17-4919-A2C7-F0A68111EFEB}"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B3548FD-8DE6-46E8-9BAE-563CC702F9A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D8D259D-9F94-48B9-9963-7863E966185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08A3465-DF87-48FC-AD2A-D5E758BA68BD}"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877A7DA-897B-4AE0-B348-484BB2324C4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D0B103B-B072-4AFA-B4D3-7412370F5B2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9B5ED4D-75B7-4DA1-9A24-EA124425640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22597E2-671E-4AF4-9EA6-755A3793D0DC}"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B1D9B7F-D845-40E3-B3D9-22E2BC71B80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52A6210-74EC-4B61-A626-ECC45144FFD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7E28DBC-54E4-4BC5-8F3E-2D4AF04544F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DF8E2A9-2D10-4F59-8B0F-450D1EA234AA}"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F55B57B-2977-4B4B-B851-07EFB08DA7C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223A26C-FF21-4761-8728-A6C3B51F00B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30C2E1C-5455-419D-BDB1-8DD3C299661B}"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9BE8CE1-EF7F-4BC7-B1C0-5690DA2C8AC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5A7F67B-09F0-47FE-9821-CB7A47D96EC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5BE6A56-0D88-4773-B0EF-E6AAF056182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D7BE511-7331-47FB-A27B-20F17E15A96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C65C1D6-881E-4949-B778-A4A0FD493AB0}"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DEF2E3D-3CDD-40D1-98CD-6D799291AF06}"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CD47A5F-F205-49DD-B0B2-1A41981B7057}"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C62AFF5-2DB2-40B9-BAE6-6F33291042FD}"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7822243-49AC-4696-BA12-64752D5A95F6}"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DDF7AAF-356C-4FF2-9EE0-41D302476207}"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DDB80A7-F3C1-4E42-A096-439B298BDE51}"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FB3DA4C-4CD2-4B65-ABA7-3B99646B00E2}"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8D0D0CC-620A-4FD6-A380-0B98A68C2C1C}"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F75A2D0-79FC-43E2-A730-C6D8F81BD75B}"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E87DCC3-E04F-4A08-A2F6-3D7B17ECE58A}"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57BF7F0-5ABC-46D8-8475-AE07B7DFF917}"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4450BAB-4A91-4B65-8A10-73FD5231441A}"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998BEC8-7DEB-42E8-9031-3FF86EC88DB0}"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D7F274B-5966-46A2-9D7C-6B49340CABEE}"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80839E6-B74A-435C-AD27-8890472DF230}"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63539C4-F516-444C-92BA-0D0A1068E4C2}"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B5973BD-4664-44D2-93E6-8F0F3C85AF57}"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C783CD1-A05C-4AF3-8970-565E5219BA97}"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A855DEB-49BA-40D0-A9ED-A83CA787790F}"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F58AC6D-B1A7-473D-8574-5C6DE8C3EC0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94973F0-F285-488C-95DD-99F52ABF3B22}"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62F0B38-5233-4A40-8E03-522EBA5DC184}"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2C0E35A-42DF-4FEC-A580-1B49444FE4EF}"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A836459-6764-4F5F-931D-1A92016C7323}"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C60375C-0372-4910-89CD-EADA26C1E0A9}"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51A1C7A-8C13-4505-8CE5-FB775FAF8428}"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E924029-3135-4292-9466-68816639B25D}"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B752B5F-26EF-4BF9-8760-B47EDF1D42CB}"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7731E91-8081-4AB6-8D1E-2659D2DB37F9}"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79FF2CD-6DB9-4A2A-9D53-B3DB5E6ED394}"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A6B430E-0898-4F1E-8617-3C0414055194}"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CDD1200-5139-4BE1-A20C-9760417BEF8E}"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1650638-F639-42B4-919C-2D487423D5E0}"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DE9E0F9-4C88-4A19-A9EA-E66FA1B6B001}"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759504C-0F0A-46A4-921D-E61C73E405AF}"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45834B3-0DFB-41B0-A4DC-F20A676EDC6A}"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08648CD-4E6B-4602-8772-9E13B6ACDA01}"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2C71556-0DDA-4447-9BA6-67E17C941459}"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0CBEF65-4ED5-41BD-A78A-A44D4E54694D}"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A567D22-D885-427B-BCE1-60767A194A17}"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3D01B36-A9FE-4A1D-A485-B27AE1CE526D}"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82E729F-F109-4E43-A1BA-5A7070D9CC94}"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96504ED-5F1A-44DF-A92D-275E7CD4FF7C}"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8FC3C9A-0839-4B99-8BF4-14B1F47C61B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E9E6E2F-3809-43B9-9E02-FD1773D3E96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CC8B89F-58CA-4DD9-A67B-F58E85B0309B}"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BF1D6F9-EE70-4BE5-8C79-88E293697D88}"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569830F-202C-4908-8961-0044E532D95C}"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157B4DA-DD98-42C5-B4DF-DDD290068A45}"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D4C8D7D-C91A-4ECB-BE7A-8931A19FB8E3}"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4B924E9-4C8A-4D19-9D15-A44160746D16}"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D9A3F36-7233-4243-B344-F7C5CF261B95}"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1ADEEDC-9BE2-4D9F-B47A-CC9A8F64818E}"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6DBB3B2-C1F9-490E-9EE7-E4B03A436A5D}"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FDBCE4E-47E1-47AE-AEC2-ED85ECE6CD46}"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ECAFDD9F-5D38-4E60-A4A9-55C2A5DCAC59}"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CA16E8F-1209-414C-95E0-1131AFBBC57D}"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F6ECCE2-1725-4ED1-B671-66603C12747A}"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8C0E6B1-7354-446F-917D-C1BD2BB75560}"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DE55996-E20A-451C-8D79-391F643BBACE}"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34E5C08-D4FE-4050-A64D-061F0D0975F9}"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A320F87-BBC7-4561-863F-B8ADC6F4E6DA}"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787B047-D955-4448-9693-D7F35A10261D}"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7B1A502-2591-438A-A631-395E4C330431}"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B65333A-EFBF-4957-AA46-01D129DA0EE6}"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8D9F1EE-4E2E-431B-9536-BE2784E2CA61}"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57DD7C5-50AB-4291-9093-855A8D39B173}"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11611530-AB0E-4224-8A37-1BAA4596BE96}"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715241B-88D2-4D84-B932-10FF6B372FD4}"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13594EF-F39A-4D6A-B2E0-75A40930C708}"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912D94D-A61C-4222-B5C0-35FD770B645B}"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10251C3-DBA0-4AC9-8880-2BF33669DB3E}"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A550607-6E06-458B-81E6-5A1EA4643DFB}"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