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01D5842-BCB8-4DD7-A4E4-6200212F061D}"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B386F91-C95C-4AA2-A2BA-FFC613140E3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11971D3-95BD-4433-A562-A86736D288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7A7600B-4EA2-4B60-8928-66961BE141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C118E30-4464-48B3-AECB-63E8881E15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44E212D-AE0A-46CD-B2E8-6649F370D8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8492651-F6E9-4E3C-835D-BAE28B3D10B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57A191A-08C1-4FC2-A122-530D179D987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A0A9E45-E330-4D92-A59A-BE68093061D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8073758-5870-4939-9EC1-64318989156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E15FADB-49AF-4D18-B862-04EEB74F568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E42F75A-93B4-474D-9769-14E608BCE8A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BF82445-5AF2-413F-A854-9B4AAE67616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820152-00A6-41FB-8EA0-9588C9BFCA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F4065D6-CC48-48AB-9A82-5C01F30A9FD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C9E8F3F-5165-4284-B487-2866630237B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E284867-92AF-4D85-8725-94DF62904B3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F37F2E1-5466-4598-91BA-D5E05167893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8471B7A-2610-4F16-A7AC-807E7202CF4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DFCB34-EA6A-49F5-BF71-AF67DB8DEC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7464C8E-06CE-4ED1-AE9A-82FC9294DF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7F79FCC-7EDA-46C8-B014-36F5FE9DFD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A9ACD77-0DEF-4061-AC6B-341B7E2AFC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996B0E-4E7F-4C48-A9FA-6424CDBAEF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E9A03E-3F31-465E-BD33-B5A7E823EC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3CE69B-137C-4CCD-ADC9-E0FEB5BB37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83A2A-4F94-4D97-8524-FD81E432C0B2}"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A4F21-A4D5-42BA-8E3C-49697B1799B4}"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3BCEB5B-23A7-4A23-9A8B-08F7DE7F067A}"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91EB55D-6F70-4A8D-BA17-F0D713F0E407}"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ECD0305-0BED-44FA-A29E-08D392B33658}"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5C223AC-EBDC-4C24-AB2E-78DD1E5BADE6}"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12C087C-7C7A-42AD-8A85-7CA1CE9F336A}"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D26CA1B-54BA-4A4D-B8A6-AAE82671F809}"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DE16A51-8CBC-4F84-864C-49A86F230AE4}"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2FA275A-3890-4A4B-9B0F-8B8A8AB52951}"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609CF7E-6331-46B1-A731-E21EEFE74FD0}"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0E965C0-9442-4D23-B4E2-CACC77C69969}"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6513A47-1C02-4D48-9A0A-325502A15572}"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BD9D263-E8E2-43CF-A014-545E1BED4C2B}"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A414BEE-164B-4E55-B309-2468D73FD7DD}"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B20AE2B-F820-4A8D-95FD-DA2D8A3A16E0}"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4BBAF8C-E861-40ED-AD51-F853EE56FEC5}"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6806C52-2B7F-45F1-97B6-79C8953523A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ADD5095-BDFB-4B9E-BB06-46E8ABBBE3C0}"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07F427A-6E6D-48D2-85C7-22AD34A94A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45952520-D787-422C-9466-D312D0A53680}"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744635E-8F5C-4413-976D-5A18943819C2}"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1AED78C-CC7B-4495-B03F-EB07E6BFAE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BC94DEF-CD25-4F22-81EC-8C98F76790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532F355-F946-4BFD-8F40-AF2F23E9ABC4}"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A74B9FF-7AD0-4E3B-8D96-2901D6A817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B8F6918-A708-4AE9-BABA-B3C8D79FB5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0D17046-5D4C-4FCD-9FF5-B20E12DBB2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9EA2F50-EA7E-4449-922A-00E529DCD046}"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1C09BCA-007C-4D1F-AF05-8A57CD8FDC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49D8D33-6E88-40B8-B669-9A056EF27A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84555A2-1CFD-4A78-B598-BB71D3D98B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CDEE9DF-F4DD-487A-9A0C-4FB9D2B41871}"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1FBECD4-CE2E-47E1-BF84-16A06630082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68D697B-30C3-408F-AA4B-3D5385BAE24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907DCA9-89A2-4369-9E4D-A3496EC473B6}"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94AC8D5-54E0-4C0E-8D4F-2A1EADD98CB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030B2F4-27BF-4A23-B27D-3C7F88E035A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E00C800-E1C5-4E3F-96B4-0B6505D165E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05F16DD-587C-439A-AFAE-7D454470C59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06E341C-9854-4C3A-95E4-E078A440110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96C95CD-C3CE-4F03-A753-5ED1A005BD59}"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34CCEA9-AB3E-4F97-BBB6-57066C74D26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4D13849-62BA-486A-BA7C-970B55C8496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7B0F93A-D74E-46E0-A329-C225FF6945F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5AFE714-7E52-4D8B-BD2A-EF3D7FB83BF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F6A8FB1-41B2-41E6-ABF8-6F0C64A3880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C3F57A3-D4CD-4FEA-835A-123A1A859C9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F65D1AC-6AEE-45EE-9AA8-E14AD40E2B2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B9D7DDC-4190-445C-BA7C-BC7AF97DA62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1E07909-473A-4F06-B4F4-3006D2079D1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D2289A7-2ED0-4575-A9D9-E0EBCFA7E38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BAF75B4-1ACA-446B-91C2-CB42B1BA43D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53F1457-0B16-4032-B26E-49942A23E241}"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B28B541-67EF-4A82-A3BF-BF713B93F150}"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7D58E84-2C03-4D88-AAAF-C0443BF350ED}"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DBEB21D-1B8E-487D-A370-C48407C78764}"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7029A33-6DA8-4339-A3D8-1360EC6E4B8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D21D05B-8D6B-4DC3-90E8-728575B3E2B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2DD7D34-755A-4863-84EA-53A5EF6F899D}"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6240EE3-A72A-46A3-82EE-3DED2AFB4BA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4D07F5F-807A-44A0-97AC-035B263BA47A}"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284D795-DBCE-4B83-97E8-75971171D27A}"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46CF09A-2901-4C2B-8A22-9C739970E34E}"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9485E33-038E-4675-BFE5-9272F368C17A}"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0745BFC-0494-406A-A90B-2554A04AAC91}"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2ACB87-DEB8-4AC0-9F91-64A7814556E3}"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7E4E7F8-A52C-43DD-917F-398B1284AD33}"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05A7B74-AE56-4CEC-9CAC-4C5047694746}"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6D9224-2835-4C94-984E-B4C84C6CE972}"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BC10246-ADE1-4074-8531-73A9095590F8}"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E0D84D8-516E-4757-99E7-9ABCCEBA9C47}"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8AA062E-AD69-47D2-A9E4-C5570111508B}"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6491D80-F8B7-4C24-8D6C-7E3DF0C9727F}"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6BA08D5-539D-4393-93EA-BC38C6179B63}"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87FE8CA-9D54-4933-B762-ECDE1133C082}"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4739A80-2C63-4598-9935-3FC835D1E1EE}"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648F92E-3C0D-4726-B0B4-4CD327F20448}"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DC0E0B7-891A-452D-A19B-0E881C2B10B8}"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4337828-F5A4-4C57-AA58-013596F75315}"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A8B2772-6B11-47E9-B154-E8A629B125BE}"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EEA3405-C560-436E-B986-D76DECFDE07C}"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CDF18F5-91B3-43B4-9B5C-4E62D41847FC}"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70AED0D-C9C9-412F-939F-148638D30AB2}"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1525992-98D3-4EEE-9081-D5D186E8F8D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ACD004A-4BDB-44D2-AF08-C2A18F33939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0DA46CD-69BD-4945-B5F9-87251366F6BB}"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59463BD-CC3F-4393-A14C-8F8D3F50ACF3}"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2939FB5-D4C0-4C7A-88FA-13DD33684508}"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EBE23EA-2EA6-43F1-8231-CC2AB48A8866}"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B95454C-C662-4FC5-B643-3D8915C38057}"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10A47C5-5DC6-4E61-A82A-3038B01E983B}"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4F0880E-1D79-4461-A2EB-5BBE5458C9C6}"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7323CF5-CCAF-4750-9EF9-862F06CA84B5}"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B2876CA-15D6-4D18-9AA2-EA3520684F5F}"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5338E2C-1076-4257-AD7C-EC587C2EAD14}"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9C1FE049-A36A-439D-B049-6D6D7F08BF72}"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B8509DA-70C8-4780-8657-9475FC546089}"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E30305A-E66C-4DBA-8E65-5E8AF28F42DB}"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79D1300-52DF-4252-A335-314AA68123E1}"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577B923-F0F3-47B7-B9E3-0BA6DE43F597}"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B205B77-40A0-4897-9C41-B4C96763577D}"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2E1C095-11DD-4E34-9C92-FCDB67110119}"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E478825-ADBA-4904-95F2-B9690A0A368E}"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922F179-2B86-4FCE-9FCF-D9D58C348B02}"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E57E6D0-44B7-4B59-A135-D8663AA079FB}"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4BDF102-19C5-4E5D-A4BC-F03A1DD8C06B}"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AF41A37-E10F-4731-B38E-00AB1B0256D9}"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A71E2881-9932-4EC9-906D-0DA38D8B6D62}"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54E8FD1-CAA7-45F8-8437-202F956A3B56}"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A79CF4A-7849-4187-BC81-BEAA929AD01F}"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C29AC1B-EE5D-49DC-9F8C-D7CA889BB51E}"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C5A244A-7443-4070-A826-53A8AF151F4A}"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3F1482C-2E25-40E9-B916-79032556E17E}"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