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4F35B2F-E8B1-42E9-8DF4-ECB0C9BBA6B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EC3C125-F3AC-4A2E-A0ED-36E36E27D75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92574E8-D9A3-4EBB-B80D-9EC41580D26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E4B0416-6F4A-4D81-BAAC-3B7A71D2BD7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7361C7C-3D0C-4EE3-BA6C-96C574F5799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B46E6F0-617E-4B5F-8C25-9BF28DA2544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763A3B3-F2C7-407A-B460-2B231FB537F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F160690-E004-4F1A-B31C-764104C72E6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22AF40F-42FD-4A1F-A812-29836F37B84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B179023-5DB1-4AB2-81AE-06E2B1DD626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4E77D95-9F0B-469E-BFDD-C671AE10C14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73CD154-050F-40E7-94F7-E25E360E101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F3C0E4B-F4E8-4B3F-86EB-13DECCD303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BB987B-585A-450D-8BD4-CAF28871A4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D00311B-DCA7-4F8A-909E-6BCA296D75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22D4792-C987-45CD-9CE9-9FD2BBB61B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7141CCC-0410-4DF3-9D21-1E146D6B84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236654C-744D-4E10-8AC7-73FFA9768DF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481FCFE-111D-48A2-B5AD-6A171B0012A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57F6269-4AFA-4E2C-AD4A-F055B9A5C75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21B193B-16D9-42EB-8196-0189BF5F36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4CEC7EE-5F03-4A91-9337-ACCAB995DE4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3C0F711-2082-4FA0-9542-17F174A086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7EB703-B3D6-42B1-A615-B72954ABE3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8AD414D-E036-4E9A-9A33-D183D76617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CD4FAE6-AA44-4F63-8715-17743582B03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AD605A5-B5A8-4FFA-81ED-6F665B0A78B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F44BFD8-61A2-4817-918A-568F1A72F01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1C1BD94-69BF-4577-8E6A-546E59093B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045AAD-BC64-4332-8867-6A5BBBC5D1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88D136-4B25-4166-B4DF-8BAEBBDDA1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2B445C-41D9-4B02-9681-631A104142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7936D5-4B98-4FCA-8AC9-19C9F80C65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FAFA55-4009-4355-8AB0-B84B163BBF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40BE48-8AF1-4CDE-9C3C-895E94E63F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BEC9DD-09E3-48F1-815D-9743C3F002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71D0B-4058-46DF-A717-03BBE7E697A8}"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EA991-D7F3-4580-8FBA-A9E16BAED1F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9741F3-AD35-46B1-9EB4-9426393EFAD6}"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19A542-5904-4671-A174-86DE585626D8}"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FF5C95-5A12-405D-9DDA-54411D2F8A0A}"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2A00563-0F64-49C8-95B1-A3156389166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D3605F-BD76-4F3E-B062-B0BF475F09EC}"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092F61C-6EAA-4E41-AA3E-CD7EBEFF9C97}"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98B9CF1-BE27-456B-95EB-1B6B3B8E5B6B}"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0F6B627-D412-4446-8301-397DD51047B8}"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C9B8382-5E54-4A97-81A7-BF5DE4CB7FA7}"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9BF3AA3-621D-4E6E-9A92-9B80EE726A81}"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F1A5982-7491-4225-9DFE-D967025E550B}"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2CFF6C1B-B2A4-4BE1-8124-768DAB223F93}"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BCBEE9F-C8A9-4E3D-AB31-8B7EFC34760C}"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B28DBB2-EA2F-4CED-81CD-D3FADE68790C}"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EFD42D-CE58-40A2-9954-33B7C6E9705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8B6BE26-D257-4CFF-9A72-2EFF74B1264C}"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54BADA-EA72-4EF2-BD84-E1A030C476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151C650-733C-4216-8EB4-B22AF59EB7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E23ECB-8FAD-4301-A156-BDE71C211F20}"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2693A6-834C-4742-9E71-DAF9A47171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19D4F5-1F1F-498A-B876-E7A60EDE82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E315859-523F-43AB-A50A-3C3096A06BC7}"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5137A7-DCD5-4240-843B-85088851BB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651BCB-E88B-470E-8C57-02198D0FBE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DBD521-9E62-41A4-8ABB-E010787071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E012304-9EEE-4A52-98F0-CF2A44F611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D55298-7B64-45E6-8D75-1867DD735090}"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7FF08D4-09F4-4EE9-BCC7-857F2791EF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7B43CD5-0217-4795-BE28-45E4AA5B4B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17E070D-5616-4CA3-98AF-E26028CC161D}"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9138A7-10FA-4093-82D0-C12C6164DE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D34F02F-A0A3-4ADB-B4FE-DFA9C482D24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AC8DA61-FDA2-40EB-AC39-4F2E534D5B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C11FAC-C55C-49E5-A708-8AB734E644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2A36719-35CC-4525-BD1D-28FC2B157CD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ABA42B4-BCE6-4548-BFD9-C5A81DEE1EC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1FD941B-D57B-49CC-9004-3B6BF99AE1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4C1FD3-89C2-4EB3-AB8E-6AA138AF568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62B43D-2D2C-44DD-82D2-0128358AA15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6C86070-F554-485D-AEB2-7BCEA136876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33B472-CF98-4877-81EA-9C187C024AD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211D55E-AF0A-401E-8643-F11B7B9B022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F3547BE-DC2D-4478-8EB0-D7CD853895F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87ABEE6-1108-4C89-ABEC-E2F52121BC1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A8960D-E82E-4689-94AA-D33BA3DEF6C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DC3C8CA-5A26-40E5-937D-C76DB8DAB81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CE2B572-4C5F-4848-AB2B-C1A1B55757A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DB2AFA3-955F-465E-BA6F-E69B04C40BA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D216F0E-4DB4-4A5E-8A9F-452BB316E38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9F6AD6-C38E-4146-BDFC-BEFECFE65E9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B959DD4-FA99-4386-BA90-AA173720FCB4}"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B68E65-BB1A-401E-8FDE-7E8D9B276FD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9C3CBF-8155-40C9-939F-1E1A2298DEA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6B981C3-AA1A-47B6-9ABB-3C6D8C47F96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CF86C46-8CE7-4F36-9EB3-D9871451A392}"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57FE42D-4F69-49DC-9668-962228060B19}"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294E81B-4D49-4860-91CE-AE0A7E872813}"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73A23B-8A1F-4B0D-A544-10265384C05A}"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0FA5FA-D707-44DF-BAB3-CF9FF175815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B8E42B3-9327-423F-A04E-E99702740BE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8461E41-752E-4FB9-A230-ED375A46637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DA0F3E-9C83-4F25-B716-BE4E38E44160}"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84566DB-EAB1-4247-9531-72140C445A00}"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0B046ED-3851-404F-9EDE-FFDB7B4680B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EEE107-124D-469C-A324-77019D62F95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5BBE58C-A0AB-4C54-8210-3957E7665CD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2677E6A-B747-4C91-B298-2D47695C6A7E}"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1F0DBD9-DCC5-4157-BC8E-1E6F6541131D}"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9CF3BEF-1D79-40B5-AD12-6026B5EA268D}"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173FBFD-7DE5-4198-9BA5-ED6B7CD9F0E5}"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71EEA8E-63A0-440B-958E-B18EF75285D9}"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4992433-CA7B-4016-ABFB-4D7DF627661A}"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4C49D6-BB8B-47D8-BE08-2AA2763C2144}"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2025E1-CBF1-4801-9DEB-DE1F273CAF65}"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BD67CAF-42E9-49D2-846D-C26DD51E4CFE}"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39A9A4B-71D6-4339-867D-5AF36A10ABCE}"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204B3D-48C8-42EB-B0B1-6286279C9BFC}"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E52211E-EF48-430A-8EAF-A746982D7A1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39D9F97-4560-4850-8F2C-570D740DB5D6}"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CC36AD4-3556-450E-AA86-C2CE7D81B7A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A40C7B-8799-4CD4-B03A-7FFCA0B5DCB1}"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238491C-EC3E-405F-876D-3407A84DA401}"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B22EAB2-6F2C-4D58-9526-0A78605F99DF}"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0D7FC6B-816B-4B53-8114-EF51622A3291}"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DEF15B-6FA8-4712-AC2D-65BE6DF2E287}"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C62AF98-7DDC-4EC0-8F71-87399AF32073}"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FE07C4-2979-418D-910A-F9C50F301DFA}"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3D51349-0BFE-4A12-AA87-889EC5037139}"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E8445FD-E919-4561-A0E0-523337976242}"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BED7630-8A4F-441D-8FC3-8230C2620CC3}"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F78FA13-B542-42BD-98B0-B1D4121D5FA7}"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E2B8A16-FC8B-4452-8DCA-07757250DFEA}"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9409F21-61EA-44CE-B997-C32D37450D04}"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58EA61B-B4CE-4920-9FB9-45F9C4B4C8B5}"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D4FA98-00DA-483C-AA44-515EA975E79F}"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C553130-2055-45D6-8CB9-B97C29F4FEF9}"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9CBF1D0-5BBE-4405-B069-AA3A04A938CF}"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BD2EF3CB-09F2-413E-BE3A-F89DFBFBCB72}"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CFF07B1-7531-4B9D-9401-F086AF3A66EB}"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A36BA39-D0A9-4CA2-8FCC-4487AE5FC3F9}"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E33E6D-D6D4-49AF-B518-8E0DE2247F91}"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5689237-FCFD-4727-BC70-138654698AFE}"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79FEA9-EBA7-4011-AFAB-D1E3B8BC8D3F}"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D88A62-1A75-4D1C-9D6F-29528614A04A}"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04F6AF-8970-4E59-AA18-BBE6FCB9F565}"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5811785-AE6F-4910-B9C7-5A98607527B2}"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158EF9-BF4C-47E5-90F8-90B46C04C5CD}"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B52187-E533-4F5F-967E-2610204B17DD}"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2C44E03-5A71-4D67-A2F7-33535F92168D}"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633DF8-A86A-4875-BDF5-2D9FCD1CA630}"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B6FF4F-D5E8-42C8-8A54-32C2626D66BD}"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