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E94BEE0-64E9-4927-8DE4-71EDFB9D0F9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F201CF5-0D21-4A27-B839-3F9ED14F039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BBCFAE3-3E05-46C4-A203-26F3ABF56AB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223B079-927D-4214-BC86-30EBAC04976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71A2B56-4E99-4881-B261-035FBF9A9D5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3E1026A-24B8-4C1F-B054-B9254A96916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BEB4C36-E43E-4B22-BB02-6F57F56701B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6E60D01-BD59-4DFB-A205-EEA973C36EC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98A2FB7-65D0-44CA-A6E9-A63705914D7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1167C6C-DE39-48E8-B69B-A34E68BB667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9610B2A-559B-4FA7-B90E-5D5CA28D896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11394A0-D863-4A14-9822-9F9CD7C1D79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9C7021C-AB05-448B-A93C-1B273294D6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C0037A-2BAD-470F-B700-ECDB1678BE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1EEA6BC-F0E9-4209-9AD2-EC0B05E26A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ED653CE-B9B6-4923-8146-7CDE9168B0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8ED721A-8835-4F05-A488-11B9C44B47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1EB1796-432D-4005-9DB2-BBFC716264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2961223-F2B5-45B8-AAA9-4C86250896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05C4B13-6C50-45D6-8090-6D772B63D3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3FFBCAE-1599-4FA8-A314-2D23A07A563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415C7C8-6E2E-46F2-B921-79A03A6A84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BA671A5-E962-4D02-970F-A17CF3C474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C9A638-459D-41AE-ACE7-B38EE05D4B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D3FDA4B-E312-4887-9E82-CC79CC9E873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FD4B752-49E1-4641-A399-59C94EBE9CB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2FC1E9E-EA4B-4EFF-9354-385DCF45046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52117C2-1705-4351-A2FF-ABE7D39FC2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C51FD2A-14D9-40A4-9548-3A01D84787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0FC015-CF77-4901-81DF-ACCA4C5187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9BA598-EF4F-4FCB-B854-C123AD3B07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D77F69-7771-4B4D-B5BE-ED99449229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404E12-1DBB-4E05-BA5F-DCD8ADC1EB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2AB508-DE2D-4089-AA21-BB2B240CF1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D5540F-A91C-44B5-94D4-B2BAB0AFC6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5AE176-305A-4D43-87E3-2CAE2235D2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F8EDF-EECA-455B-9696-8CF3287F25E3}"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2AB22-C189-44B5-8CF2-34B3E5C3197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D4745D-D3A0-4155-8676-7FE5911B82E1}"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88076C-E538-4A41-960C-235E57CB7EC3}"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702FD3-86A8-46F5-A141-FDFA5BB806A7}"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8930BB4-C541-44A3-A776-FDC4115DBD6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4BF2B25-295F-49EC-BFAD-DA5AB9D8703E}"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BDEFD90-9063-4E70-920A-DA2192B2A402}"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8FF26A-EC70-45F7-A7F9-85342B4B23C8}"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BE6BC4F-3AB6-486F-B45C-B2CCE3AE7977}"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E7A755A-A3E5-4DFC-B71E-713209618791}"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A7E9674-5F4D-4CEB-87CD-EA46ACA512FF}"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6F9943-D255-4CF2-8D9B-572FE2522645}"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3A527B99-E996-4854-971B-A8695B86A423}"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BB6AABD-DA3F-473F-94BF-0444F1AD96AF}"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7F92FF6-A795-4F47-8F35-5F6F46D768A0}"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6410437-43D3-4AF2-B7D2-8519488D710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E9D2F7-2CC2-4FAE-8AD9-4FB6BFE3635F}"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CEE321-5C36-44F8-A8F2-17B8ADF499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889FF6F-58D0-4403-85C2-6BEB98E618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E374F8-6002-4F8A-AC0B-D0D2E1DB0A4D}"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1E9ED7-A9DD-4695-B4CB-127AEFD5D7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FD5D429-1F46-44DD-9AC5-C8042F1BE3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8BE2C1-79BC-4A0B-AE76-4AB81D84E3F9}"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271AB90-91FB-4084-AA7D-0014D33A1F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7DE26F1-1930-4B3F-B9BA-5AE2A6F3D6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BFA3AB-9FA7-4D0D-A569-8399E011E0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C1D872-1964-4BFD-83B3-C0A7762F68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575A5E-1A1D-4CFE-8F7D-94E8495A61A8}"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7BC5B75-22F4-4D8C-B963-420E22B366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C780F2-222E-4A7B-BEBC-FA7275729E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DD2E47D-6B1E-4B92-8192-EC989579A784}"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95CE95-E81B-4736-A44C-8698FCEFE5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220876E-FFF3-43EB-A23A-C3D60179FB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F40A3D-1A01-4C2E-B1C4-B5B951A9A54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083B76-C839-4890-ABB4-DBC293757FC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D2B571-6E43-4C5A-8130-AC7641B800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71FDF8-DE9A-4396-8E10-A2697A6DF4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6B70587-FB67-4673-AB20-209D69380A0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31EB3C7-B144-423A-B2D4-30B51213E9B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5942673-8863-48FA-AB59-B8F637FBD88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D7DA0E2-C5DF-47AB-AFC6-F4A0435C993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AB2DA59-4AC5-409B-9460-2440226E51A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FC90375-6090-46F2-8F07-5819F0B0B92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572CB69-1E09-437B-B812-B33565A5B3C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5FC9E8-E332-46E7-AFF9-05EC3673AD5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1A8C28-F116-49FF-BDF7-72F12ABA841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EBE50B-36DD-43D1-966C-A0BAEF30DE7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6A99A0-0834-4255-AB18-19DE1938D67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21C60BD-654B-4744-B89D-947C7C862F3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2E0721-1CED-4600-A5FA-75BE982A2A6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E4CC59-ED5E-44C9-9093-6558DD365DF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8E6D94-72A5-4238-AB65-26796533B8F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F0CF8B-13A8-44BC-BFC1-BBDFD3CB585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60C8CE1-8EAD-49D7-AF61-FF1605C1A92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8C19C58-D42E-4C49-8DF1-CF7054F7E5C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9F74112-2BFA-4C59-A7AD-139BE406AC75}"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5642A12-326F-408F-9079-1647FE3D0C2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21D9CC8-EDCB-4E0B-BB75-F89915F800F1}"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0F1CAD-ADA4-4B19-87FE-9BB4A9F24D73}"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830F968-65B7-4FA1-847F-515F2935C5F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65449C-109F-470D-A169-BA300252B02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95D96F1-86DB-47FA-8502-A13B1773B3B7}"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32FEDF-2F1F-4D63-A1F3-C90A212820D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665830-B9BF-4759-891F-7DD8707DC628}"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F9B22B0-527A-47BA-934A-5D888EDAB48F}"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F56674-9C8D-4763-B5EF-B167E714823D}"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C9791B8-7972-4900-B115-A12DAEE4240D}"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182867F-3797-435E-B635-17589CF21EF3}"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2896BB5-10E4-45F0-AF2D-6E1272A479A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C47C578-6EF9-4855-A279-C73D0B59D8C0}"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F30A49-079C-4F4F-9FF7-79BEF2C677C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3BE30F-C9B1-4107-9208-DD18E53D6498}"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1C52EB-F54B-49C7-9375-9BA2D351BE1F}"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7D3596A-4B17-4DB7-A82C-5DB7481A1F25}"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58314E9-0CF3-4D29-AA56-0D7D92EA5F52}"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046491B-3F81-4F67-B676-ACA4A9FEAC6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75AF6F-B4F7-467B-B4D5-A6CF98741382}"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7D361D-A59D-40F1-ABFA-28D72BBFE9F9}"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CCD4C97-A0DC-4F41-8034-67A380523AC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EAE5B4C-10E4-462A-BA86-8BC0F763FA95}"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3C94C93-C94A-4518-9304-E69E8141C4D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AB3C00A-D292-408B-A860-3CB865083314}"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B18A2E-6A2F-4624-B183-7DE533D3D1D2}"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226FD4-19A6-4E4E-A95C-F66D412FAD4B}"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55B3457-7537-4015-A646-AA6E2B6E619F}"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EEEAA8B-7226-40BA-B66F-0E28B67357C7}"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75F0B2-D58B-4B85-A751-822957389CF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80ADA0-E19A-4B44-90B7-EA79D44D3740}"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D3E3351-6D5A-4785-947A-F6E0AFA2720E}"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C79832-AEC2-4613-9AB9-A7095723AE9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5822C61-F018-44A1-A4E4-C46BD5CAE123}"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8C61985-0A51-492A-9FB8-E5F1874485BE}"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FE15F3-DA13-4F85-B772-BA95DF1E17A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68C53F-50B6-4C71-B0C9-FFD9B746FE8F}"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45EB6B-8407-477A-9F9A-1127E7DBF3A1}"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8615847-FA1C-401E-A222-D520B6122626}"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277802-794E-41DF-95A3-44CA6719537F}"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55F3D7A-7659-4E9B-8C19-4BA978631D83}"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BDCBBD71-30C3-41DE-B2E8-1F6D645F74C8}"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17C1ED-2241-49DA-8E93-1E4882F2BEE4}"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DF2CF61-DCD4-41F1-BEB1-79AA26CA0E50}"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194923-0310-4222-9048-04066F07C62C}"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1DFA5A-C572-48C0-8E64-7234946140ED}"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227871-757B-4E60-B362-7B533A0EB4E8}"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8713CFE-9CA1-4FE5-98BD-CB2B971065E7}"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D9AEA1-550D-4743-A584-10C8FBD1A26E}"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07E7A7-B83F-4E68-A940-220BF836A1F6}"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6D91C3-295B-40E8-833F-4A7979E7C296}"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C039753-7C70-4E0C-B143-EABD43862C09}"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222129-56F5-4B12-8328-7219AB6C6BB4}"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321BBC3-F86C-428A-AFBA-495C4E1CD947}"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33117D6-50AC-4FC9-8777-741641A34F70}"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